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CAFB-3665-43D9-BC10-E752B4D1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269-D94C-4EBF-B3B7-8FDAA41C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421D-1A5D-4549-AE66-C1E4C886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C232-6A0B-48C5-9F88-C2F17BEE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16BC-AFBB-4DBC-8784-1DBD588E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27D7-BD83-43F6-ADC5-975F7126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A36C-AC21-45C5-A3A9-545F7839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4F77-9101-4741-AE85-BAC02D23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C49B-88F0-445C-9E99-5AEA4384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3F95-2DB9-4EA0-9728-B2C11CED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9EF8-4F42-43BA-99AF-64F24470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EE3F-0045-4A56-AD11-18DBDABC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813A-62F3-4AF2-BD72-26ADF551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EF4D-8A7C-4B89-A735-D5A110DC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2904-2D96-4D06-8B10-0FC390E8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7558-ACF6-4D9C-931C-8A3C7B42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C989-1A51-4674-85CF-3040FB51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A6AF-27D5-4A3E-9497-63FF08DE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247F-57DB-464A-BE16-ACC02507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43C-7F79-4E07-AD32-FE66E733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4EF-7400-436D-AC05-C3D64B87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1157-08DA-4EC2-A5FE-0CF839BB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4849-3C6B-49CB-B491-793DFA6C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72F-26FD-4814-89BA-E39F1D00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428C-5F20-412A-AC1A-6E23E3F04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9C52-BCE7-4CD4-9055-7FCD747C9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69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941c"/>
                </a:solidFill>
                <a:latin typeface="Arial"/>
              </a:rPr>
              <a:t>Как обеспечить условия безопасной работы за компьютером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67280" y="4581000"/>
            <a:ext cx="3997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или : Юля К.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ра Ш.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удентки КГП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10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8bed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bed0"/>
                </a:solidFill>
                <a:latin typeface="Arial"/>
              </a:rPr>
              <a:t>Мы считаем, что компьютеры</a:t>
            </a:r>
            <a:br>
              <a:rPr sz="4000"/>
            </a:br>
            <a:r>
              <a:rPr b="0" lang="en-US" sz="4000" spc="-1" strike="noStrike">
                <a:solidFill>
                  <a:srgbClr val="f8bed0"/>
                </a:solidFill>
                <a:latin typeface="Arial"/>
              </a:rPr>
              <a:t>вредны в любом возрасте...</a:t>
            </a:r>
            <a:br>
              <a:rPr sz="4000"/>
            </a:br>
            <a:r>
              <a:rPr b="0" lang="en-US" sz="4000" spc="-1" strike="noStrike">
                <a:solidFill>
                  <a:srgbClr val="f8bed0"/>
                </a:solidFill>
                <a:latin typeface="Arial"/>
              </a:rPr>
              <a:t>- Ну давайте телевизоры сломаем, компьютеры разобьем, на лошадей пересядем!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40360" y="3789360"/>
            <a:ext cx="3960720" cy="287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30268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941c"/>
                </a:solidFill>
                <a:latin typeface="Arial"/>
              </a:rPr>
              <a:t>Наша цель-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определить условия для безопасной работы на компьютер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08000" y="2349360"/>
            <a:ext cx="5905800" cy="4319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41940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b10"/>
                </a:solidFill>
                <a:latin typeface="Arial"/>
              </a:rPr>
              <a:t>Сегодня российский рынок предлагает различные марки компьютеров из многих стран ми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b10"/>
                </a:solidFill>
                <a:latin typeface="Arial"/>
              </a:rPr>
              <a:t>Все они различаются по степени 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435640" y="404640"/>
            <a:ext cx="2881440" cy="2303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00720" y="3789360"/>
            <a:ext cx="3958920" cy="2664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941c"/>
                </a:solidFill>
                <a:latin typeface="Arial"/>
              </a:rPr>
              <a:t>Для безопасной работы соблюдай следующие услови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обходима правильная организация рабочего ме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ключение прямого солнечного св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348000" y="2637000"/>
            <a:ext cx="3311640" cy="252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1680" y="189000"/>
            <a:ext cx="8540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941c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бегать расположения рабочего места в уголках комнаты или лицом к стен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941c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Расстояние от глаз до экрана компьютера должно быть не менее 50 с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059280" y="4076640"/>
            <a:ext cx="4033800" cy="244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276720" y="1197000"/>
            <a:ext cx="2735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1680" y="620280"/>
            <a:ext cx="854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941c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тол и стул должны соответствовать росту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941c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Проводить зрительную гимнастику в середине занятия за компьюте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3673440" cy="273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98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0707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54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ы считали, что компьютеры «враг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b0707"/>
                </a:solidFill>
                <a:latin typeface="Arial"/>
              </a:rPr>
              <a:t>Н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ществуют условия при соблюдении которых компьютер становиться «другом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56000" y="3284640"/>
            <a:ext cx="4392360" cy="3573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941c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епанова М.И. Как обеспечить безопасное общение детей с компьютером // Образование.- 2003.-№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епанова М.И. Правила безопасного общения с компьютером //Детский сад от А до Я.- 2003.-№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3:15:08Z</dcterms:created>
  <dc:creator>User</dc:creator>
  <dc:description/>
  <dc:language>en-US</dc:language>
  <cp:lastModifiedBy>User</cp:lastModifiedBy>
  <dcterms:modified xsi:type="dcterms:W3CDTF">2009-05-20T14:14:37Z</dcterms:modified>
  <cp:revision>2</cp:revision>
  <dc:subject/>
  <dc:title>Как обеспечить условия безопасной работы за компьютером</dc:title>
</cp:coreProperties>
</file>